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camera.wav" ContentType="audio/x-wav"/>
  <Override PartName="/ppt/media/image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F40-CA1C-4209-946F-8E06EAF0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B40C-294C-4B54-8A35-2A1BFCD2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16DD-4FAA-4158-91DC-18D15817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322-83BD-4051-B00E-EFBB2703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94CE-DC12-4736-AA05-5EBCF2B9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D892-F65A-4E43-9D6C-8026E81E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BBDE-7601-4FD7-8DD4-CEF01135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F9EB-306C-4C55-BFA9-5BA15F96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DF3D-33A1-40DB-8D19-342B8461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2248-FD20-4EB1-9B36-B372C02D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CB0B-1C27-40C6-88B0-9E711A63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F2D-98B2-49CB-A005-CCCDC0C8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250C-C941-4ACA-9E29-5D56307D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3092-27CC-434A-A3B3-9C4D683C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6F6E-C182-4914-A246-07B8F72B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C1E3-FDE6-430B-889D-9E21AC45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F30C-3FAC-43BF-8F2F-7F30CA45D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67144-EF2C-49CE-AD9B-8CD7C1ED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D96BD-72B0-46FB-989B-75E55801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794A3-2DAA-4C15-B202-1BAF4F77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F7A87-302E-422A-AE5C-72657FC5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0214C-D684-4F70-945E-2A8DB297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A6D-D111-43DB-88CB-D74C528A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58CD9-FA43-4B96-8522-7897AE45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04468-EBC8-451F-BD0E-0A92B5CB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C24FA-BD9D-4810-A2A3-5157BD04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C7F98-2065-4276-A737-3FEE03BC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296E-1B8A-4CBA-A3AA-91BD86EB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FCC79-4CB6-4071-B4EB-5B1A9771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1D7FA-03EA-494D-81F6-47C0CF3F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AC42B-190C-4745-89CE-467699CC2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E7AFD-1BCB-4578-984B-A4A8F636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63E1-E90D-405C-A569-4F2B81AF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B00-8FFA-4DDC-8B74-EAB3260B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DC4D5-5886-4A1B-B4B4-4FDEB3BB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32BA7-E9A0-4318-82D9-FA62B9F0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83FBD-C363-41F6-9093-83C7F539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82E1B-EDEB-4574-AC2D-36F3955B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178B7-5ACC-4135-98D4-B580AB8B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CD0E6-C4BE-42EE-A0B9-0E1C0D77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35FFD-46DF-4D3B-A1C5-8F658D70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526FA-4873-4908-8B83-6A05F633A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299BB-8442-4CD8-B869-408D22A7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0A03-D985-4B4F-A765-4E1E4DC25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17C3-B014-4D0E-AD9D-7A93F15F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6DA1-8242-462D-9C1D-78F1522B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F7B-4792-4D88-B546-18A9B1A2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1FC-561A-4B02-B5B2-74E321FF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42EC-47EE-4FAA-B554-13A1C3A58A8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077D-71A2-4E77-B752-F6F71CB8883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C0D0-10BE-4ED9-814D-565A18C6ACC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B680-F05A-4CA1-94D3-C0778B7D349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74680" y="1133640"/>
            <a:ext cx="8820000" cy="2431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4" descr="C:\Program Files\Microsoft Office\MEDIA\CAGCAT10\j0301252.wmf"/>
          <p:cNvPicPr/>
          <p:nvPr/>
        </p:nvPicPr>
        <p:blipFill>
          <a:blip r:embed="rId1"/>
          <a:stretch/>
        </p:blipFill>
        <p:spPr>
          <a:xfrm>
            <a:off x="6143760" y="4429080"/>
            <a:ext cx="2247840" cy="1922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згадайте кроссворд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86000" y="1000080"/>
          <a:ext cx="5286240" cy="3000600"/>
        </p:xfrm>
        <a:graphic>
          <a:graphicData uri="http://schemas.openxmlformats.org/drawingml/2006/table">
            <a:tbl>
              <a:tblPr/>
              <a:tblGrid>
                <a:gridCol w="414360"/>
                <a:gridCol w="466560"/>
                <a:gridCol w="439920"/>
                <a:gridCol w="441360"/>
                <a:gridCol w="439560"/>
                <a:gridCol w="441360"/>
                <a:gridCol w="441360"/>
                <a:gridCol w="439920"/>
                <a:gridCol w="441000"/>
                <a:gridCol w="439920"/>
                <a:gridCol w="441360"/>
                <a:gridCol w="439560"/>
              </a:tblGrid>
              <a:tr h="428760"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5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Rectangle 81"/>
          <p:cNvSpPr/>
          <p:nvPr/>
        </p:nvSpPr>
        <p:spPr>
          <a:xfrm>
            <a:off x="214200" y="404568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горизонт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Сумма длин сторон геометрической фиг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Инструмент для измерения длины отрез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равило, записанное с помощью бук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ойденный пу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Арифметическое действ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Число, на которое нельзя дел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те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571760"/>
          <a:ext cx="8472600" cy="4503600"/>
        </p:xfrm>
        <a:graphic>
          <a:graphicData uri="http://schemas.openxmlformats.org/drawingml/2006/table">
            <a:tbl>
              <a:tblPr/>
              <a:tblGrid>
                <a:gridCol w="706320"/>
                <a:gridCol w="551160"/>
                <a:gridCol w="860400"/>
                <a:gridCol w="706320"/>
                <a:gridCol w="706320"/>
                <a:gridCol w="706680"/>
                <a:gridCol w="704520"/>
                <a:gridCol w="706680"/>
                <a:gridCol w="706320"/>
                <a:gridCol w="706320"/>
                <a:gridCol w="704880"/>
                <a:gridCol w="706680"/>
              </a:tblGrid>
              <a:tr h="650880"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67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щ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5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24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6 </a:t>
                      </a: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Устный сче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и вычислите: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! = 3 · 2 · 1 = 6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! =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920" y="7045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акие измерения надо провести, чтобы найти площадь прямоугольника?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       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Constantia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 = a · b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Прямоугольник 3"/>
          <p:cNvSpPr/>
          <p:nvPr/>
        </p:nvSpPr>
        <p:spPr>
          <a:xfrm>
            <a:off x="1714680" y="2643120"/>
            <a:ext cx="5500440" cy="2000160"/>
          </a:xfrm>
          <a:prstGeom prst="rect">
            <a:avLst/>
          </a:prstGeom>
          <a:solidFill>
            <a:srgbClr val="5ff3c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3840" y="1643040"/>
            <a:ext cx="8643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Площадь квадрата равна квадрату его стороны: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    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                               </a:t>
            </a: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</a:t>
            </a:r>
            <a:r>
              <a:rPr b="0" i="1" lang="ru-RU" sz="6000" spc="-1" strike="noStrike">
                <a:solidFill>
                  <a:srgbClr val="ff0000"/>
                </a:solidFill>
                <a:latin typeface="Constantia"/>
              </a:rPr>
              <a:t> = а</a:t>
            </a:r>
            <a:r>
              <a:rPr b="0" i="1" lang="ru-RU" sz="6000" spc="-1" strike="noStrike" baseline="30000">
                <a:solidFill>
                  <a:srgbClr val="ff0000"/>
                </a:solidFill>
                <a:latin typeface="Constanti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                            </a:t>
            </a:r>
            <a:r>
              <a:rPr b="0" i="1" lang="en-US" sz="4000" spc="-1" strike="noStrike">
                <a:solidFill>
                  <a:srgbClr val="ff0000"/>
                </a:solidFill>
                <a:latin typeface="Constantia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Прямоугольник 3"/>
          <p:cNvSpPr/>
          <p:nvPr/>
        </p:nvSpPr>
        <p:spPr>
          <a:xfrm>
            <a:off x="2786040" y="3000240"/>
            <a:ext cx="2143080" cy="20718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900" spc="-1" strike="noStrike" u="sng">
                <a:solidFill>
                  <a:srgbClr val="04617b"/>
                </a:solidFill>
                <a:uFillTx/>
                <a:latin typeface="Calibri"/>
              </a:rPr>
              <a:t>Свойства площадей: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400" y="1196640"/>
            <a:ext cx="87152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786240" indent="-7862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Площади равных фигур равны.</a:t>
            </a:r>
            <a:r>
              <a:rPr b="0" i="1" lang="en-US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Их периметры тоже равн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 algn="ctr"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 algn="ctr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1 = S2</a:t>
            </a: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1 = </a:t>
            </a: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86240" indent="-7862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Равнобедренный треугольник 3"/>
          <p:cNvSpPr/>
          <p:nvPr/>
        </p:nvSpPr>
        <p:spPr>
          <a:xfrm>
            <a:off x="714240" y="2571840"/>
            <a:ext cx="2928960" cy="23572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Равнобедренный треугольник 4"/>
          <p:cNvSpPr/>
          <p:nvPr/>
        </p:nvSpPr>
        <p:spPr>
          <a:xfrm>
            <a:off x="5072040" y="2428920"/>
            <a:ext cx="2928960" cy="2357280"/>
          </a:xfrm>
          <a:prstGeom prst="triangle">
            <a:avLst>
              <a:gd name="adj" fmla="val 50000"/>
            </a:avLst>
          </a:prstGeom>
          <a:solidFill>
            <a:srgbClr val="55a83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nstantia"/>
              </a:rPr>
              <a:t>P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4617b"/>
                </a:solidFill>
                <a:uFillTx/>
                <a:latin typeface="Calibri"/>
              </a:rPr>
              <a:t>Свойства площадей: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nstantia"/>
              </a:rPr>
              <a:t>2. Площадь всей фигуры равна сумме площадей ее часте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nstantia"/>
              </a:rPr>
              <a:t>S = S1 + S2 + S3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1214280" y="3286080"/>
            <a:ext cx="1714680" cy="18576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2928960" y="3286080"/>
            <a:ext cx="1714320" cy="1857600"/>
          </a:xfrm>
          <a:prstGeom prst="rect">
            <a:avLst/>
          </a:prstGeom>
          <a:solidFill>
            <a:srgbClr val="10cf9b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4643280" y="3286080"/>
            <a:ext cx="1714680" cy="1857600"/>
          </a:xfrm>
          <a:prstGeom prst="rect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nstantia"/>
              </a:rPr>
              <a:t>S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м итоги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пишите формулу площади прямоугольник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Запишите формулу площади квадрата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Какие свойства площадей вы запомнили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 spokes="8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4:26:00Z</dcterms:created>
  <dc:creator>Admin</dc:creator>
  <dc:description/>
  <dc:language>en-US</dc:language>
  <cp:lastModifiedBy>Макаров</cp:lastModifiedBy>
  <dcterms:modified xsi:type="dcterms:W3CDTF">2012-12-03T05:02:39Z</dcterms:modified>
  <cp:revision>14</cp:revision>
  <dc:subject/>
  <dc:title>08.12</dc:title>
</cp:coreProperties>
</file>